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1FBA-8FA5-464F-95EF-8BC2E971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F40-D89A-4DC8-9E27-39CA526C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0DD2-63B9-4749-9BCE-DB902E35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859-BB4C-4C42-B224-569A2750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5545-AA44-4574-B3D8-085A9BD9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C654-9E60-448C-A89C-1BD14B4A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CC7B-55E1-4A47-8333-230D6E16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F0D6-A8B6-4615-A32A-952EB82E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B75C-4756-4283-A2E5-A60E0E79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D9A2-DDF0-4A99-BB6C-521CEFE8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4538-68A6-4F41-9C40-7A1D43FF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D2B9-6766-48C2-88EC-F3283DD5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48B2-BFF7-4417-B61D-7319725E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DABB-4A07-4B95-9AC9-38EDD72B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AFD5-0321-491B-BFBF-BC35205F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D4BB-C860-49A6-A05E-65E7FEBE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BA6F-DE81-4216-996A-DBE79155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B511-6B7E-4368-8F0E-00CC3382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0D2-DEF2-4378-9039-E07D5809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A2B-4D5E-4005-B550-96F4561C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4DB-D00D-43D8-A2CB-C8678B13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175-40E6-454A-B8E5-E6E5D9E3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34B-50D5-45B0-B17E-469623AD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053-9878-45E0-8C42-63126C69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7048-13D1-4698-9FEB-702C7BD74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12F9-15C4-48A3-8B28-7610F71BD6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9d9ff"/>
                </a:solidFill>
                <a:uFillTx/>
                <a:latin typeface="Comic Sans MS"/>
              </a:rPr>
              <a:t>Gwerth y misoedd</a:t>
            </a: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5280" y="1197000"/>
            <a:ext cx="67816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s yw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wrth  = 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c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i        = 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Beth yw gwerth Awst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40360" y="3357720"/>
            <a:ext cx="205740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8:04:00Z</dcterms:created>
  <dc:creator>Carwyn</dc:creator>
  <dc:description/>
  <dc:language>en-US</dc:language>
  <cp:lastModifiedBy>Carwyn</cp:lastModifiedBy>
  <dcterms:modified xsi:type="dcterms:W3CDTF">2008-12-31T18:13:37Z</dcterms:modified>
  <cp:revision>1</cp:revision>
  <dc:subject/>
  <dc:title>Gwerth y misoedd</dc:title>
</cp:coreProperties>
</file>